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1BE3-165F-467C-88D8-AAA325F6F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5A9F-DB56-4784-A9B1-9C3D166C8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D80A-2CDD-463A-80A2-76AD3CD4F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C8BA-DBDA-40D6-96F7-1D30942BA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F924E-BC76-44E3-8F61-376FCCF8F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17390-27EE-4BCE-A04A-5506370DA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2059F-DA2C-4E6A-9E53-B6872CEA3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CC24C-CA79-44C5-BCA0-C56A408FF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65C79-8EFA-4B19-8457-5645D82AF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990720" y="3049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BBE0F-9D92-4E2D-A56D-2DB73EC5C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6C202-40BE-47D9-A152-54D89C546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6BB3-4FE6-4B48-994F-67381BC57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E850C-B0BD-4E35-A7B7-C194DAF58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D3F7D-D811-4789-BE7B-54FE0CE76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BC20D-1F4D-44A2-8BCF-470021BC1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633F7-BB2E-40E3-8B80-3791B3C95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0DE46-0706-4FA4-830D-252DCF2AD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4324-00E0-4707-9507-24F2AFD6E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D54D-910B-4B89-96A8-3B7C201A9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8990-C1E7-4BDA-A3D1-77D4F260E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90720" y="3049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ED98-8AB0-4B4A-AA38-7F781F1B0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0A83-7748-41B7-8FCE-BFE96803F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4049-D038-4269-94F8-DE9AB4069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D60B-EFD2-432D-8A15-3CB3EB32B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>
            <a:alphaModFix amt="40000"/>
          </a:blip>
          <a:stretch/>
        </p:blipFill>
        <p:spPr>
          <a:xfrm>
            <a:off x="7315200" y="5510160"/>
            <a:ext cx="1828800" cy="1347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808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09CE1-FC39-45D1-81F4-67C1F1AFA929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8440" y="2967120"/>
            <a:ext cx="8026560" cy="0"/>
          </a:xfrm>
          <a:prstGeom prst="line">
            <a:avLst/>
          </a:prstGeom>
          <a:ln w="507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479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0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4F03D-68B1-42E8-9167-CB6ECE814F5A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sourceforge.net/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5640" y="914400"/>
            <a:ext cx="6095880" cy="160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GBrowse: Generic Genome Browser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3886200"/>
            <a:ext cx="73152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September 2003 Update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Lincoln Stein, CSHL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914400"/>
            <a:ext cx="2133720" cy="15732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GBrowse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rcRect l="905" t="28856" r="2830" b="13655"/>
          <a:stretch/>
        </p:blipFill>
        <p:spPr>
          <a:xfrm>
            <a:off x="838080" y="1824120"/>
            <a:ext cx="7751880" cy="37386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Documentation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PODified Documentation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Man pages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Text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HTML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One-click web page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Illustrated tutorial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No database needed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Installation Helpers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Genbank2GFF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UCSC2GFF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Two versions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Gadfly2GFF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GFF3 Support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Schema Enhancements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Chado support improved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Most (all?) performance issues resolved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Bio::DB::GFF improved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Delete/update support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Update plugin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Other Notable Happenings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“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ISB GBrowse” released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Multiple data sources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DAS integration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“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Don’s GBrowse”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MARC GBrowse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Closed loop system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Credits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99" name=""/>
          <p:cNvSpPr/>
          <p:nvPr/>
        </p:nvSpPr>
        <p:spPr>
          <a:xfrm>
            <a:off x="1850040" y="1523880"/>
            <a:ext cx="2332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entury Schoolbook"/>
              </a:rPr>
              <a:t>CSH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huly Avrah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cott Ca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898640" y="2895480"/>
            <a:ext cx="257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entury Schoolbook"/>
              </a:rPr>
              <a:t>BDG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hris Munga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hengQiang Sh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47720" y="5938920"/>
            <a:ext cx="1523880" cy="5364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071520" y="5973840"/>
            <a:ext cx="435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stellar"/>
              </a:rPr>
              <a:t>http://www.gmod.or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1523880"/>
            <a:ext cx="223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entury Schoolbook"/>
              </a:rPr>
              <a:t>IS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Paul Edelfs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Robert Huble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892880" y="4375080"/>
            <a:ext cx="237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entury Schoolbook"/>
              </a:rPr>
              <a:t>HGMP-RC Fug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hawn Ho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186520" y="2927520"/>
            <a:ext cx="220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entury Schoolbook"/>
              </a:rPr>
              <a:t>Elsewhe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Marc Colisim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Marc Logg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6:36Z</dcterms:created>
  <dc:creator>Authorized User</dc:creator>
  <dc:description/>
  <dc:language>en-US</dc:language>
  <cp:lastModifiedBy>Lincoln Stein</cp:lastModifiedBy>
  <cp:lastPrinted>1998-10-28T21:29:29Z</cp:lastPrinted>
  <dcterms:modified xsi:type="dcterms:W3CDTF">2003-09-15T15:49:54Z</dcterms:modified>
  <cp:revision>544</cp:revision>
  <dc:subject/>
  <dc:title>Training</dc:title>
</cp:coreProperties>
</file>